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BCD-8386-4BA7-A45F-4EB91DD5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968-C83A-4974-A3D8-01391CB5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BC2-93B0-4733-80F2-0BA442DA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724-7F90-4BF7-A9EB-2BBC79DB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0A7-4373-4752-8363-1630CE07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8DC-A4F6-434B-A2C7-AB53EEF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C68-4DB4-4AB8-9F4C-2135B0B3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8B7-09A9-4D31-9A61-A467D04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FE5-141B-4971-BBCD-F079BCF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4EE-FFFD-4609-A8AA-7D4BF22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3CB-0CB4-43D8-871B-A0E058A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1C3-1284-4568-B6D1-59A8EF8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3E8A-FC82-4AB4-844E-092B9496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609300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David Shortis 9P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(William McLintock Onus) was born on 2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ember 1948. He passed away on October 24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5084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34704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141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 Onus was the only child of a Scottish mother and an Aboriginal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has a son named Tir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144792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Father Bill 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3179520" cy="189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566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5661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Son Tir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ore 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n Onus was a self taught artist who began as a motor mechanic before making artifacts for his fathers business called Aboriginal Enterprises in Belgrave V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446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ward Winning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s Painting Barmah Forest won Canberra's National Heritage Award in 19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429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ointment to the Australian Council as Chairman of the Artists Management Association in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rded with an Order of Australia for his contribution as an Artist and Ambassad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n Onus"/>
          <p:cNvPicPr/>
          <p:nvPr/>
        </p:nvPicPr>
        <p:blipFill>
          <a:blip r:embed="rId1"/>
          <a:stretch/>
        </p:blipFill>
        <p:spPr>
          <a:xfrm>
            <a:off x="3419640" y="4581360"/>
            <a:ext cx="1739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 of his many          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3611520" cy="28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31308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30974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722240" cy="229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34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50:18Z</dcterms:created>
  <dc:creator>Davo</dc:creator>
  <dc:description/>
  <dc:language>en-US</dc:language>
  <cp:lastModifiedBy>Davo</cp:lastModifiedBy>
  <dcterms:modified xsi:type="dcterms:W3CDTF">2008-07-29T11:00:45Z</dcterms:modified>
  <cp:revision>2</cp:revision>
  <dc:subject/>
  <dc:title>Lin Onus</dc:title>
</cp:coreProperties>
</file>